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7B9-1D7E-4D98-B561-B93CC847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D37-CAC4-4181-9D33-F443306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F6F-DD95-4625-88BD-D4B75F49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E5F-8370-4F41-ADA2-D0B452D9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1AE6-61F2-4A19-A300-856CC956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40F2-A6D7-437A-91B5-E3F45F5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067C-7757-4448-8352-1D51482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2BB-D808-4521-9A00-D6A6BD65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56D2-E13F-44BD-B03C-C6AC819A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085-0A4F-41C7-A2FF-D771AF0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DAF-336E-47C4-A7A9-E5A496C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C93-28AC-4541-832F-1BDE731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2CA-0043-4D36-A6A9-9B19EEF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CFF-A94B-4A94-97EC-E585D0E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BB5-0A33-402D-A69E-96C5301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6F43-82EB-4653-ADB9-F170CC53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D9D-F360-472E-81A3-5A587959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7EE-A5A4-479B-BD23-FD2CC802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31E-5C24-47B1-B05A-581A3F1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760-168E-4B04-9A02-53219EE1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8A1-2F28-4581-9FAC-F89CEB2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668-4841-4115-9E9F-48B134D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E49-5DA8-4A31-9375-F370CD9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809-8325-44FF-BD49-B9CD484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871-9C57-4E56-9A59-96FBB3575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E4F-1040-41EF-B902-30CB80B06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ЕЛЕМЕНТА ДОБРОГ КЛИНИЧКОГ ПИТАЊ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на интерне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је скуп повезаних, међусобно усклађених информација, складиштених зајед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оци база су научноистраживачке и друге здравствене установе. Власници база  (хост, сервер) су институције које купују готове, формиране базе научних информација, чувају их и ажурирају, да би их продавали корис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125000"/>
            <a:ext cx="41716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од основних предности електронских изво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информационим сервисима 24/7 - доступни 24 часа, седам дана у недељ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примарних докумената - електронски извори нуде и примарне документе које тражимо, а не само информације о томе где се ти документи налаз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и ефикаснији приступ информацијама/документима - време приступа тражене информације знатно је смањено и више корисника има приступ информацијама истоврем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раживост примарних докумената - због индексирања целокупних колекција и у њих укључених примарних докумената, обим података који служе као основа за екстракцију информација знатно је пораста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обухватај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е информационе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ајт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пи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и информациони систе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и информациони системи у ужем смислу подразумевају грађу коју библиотека поседује (интерни извори), а ако томе додамо и могућност приступа информацијама ван библиотеке (екстерни извори) до којих библиотека обезбеђује доступ, добијамо комплетне изворе информаци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земљи, најпознатији с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is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Kobs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и Онлине Библиографски Систем и Серв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ISS (Кооперативни Онлине Библиографски Систем и Сервиси) представља виртуелну библиотеку. То је библиотечко-информациони систем са узајамном каталогизацијом, библиографско-каталошком базом података и локалним базама података библиотека учесн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о-информацијски систем COBISS заједнички обликују библиотечко-информацијски сервис и библиотеке које учествују у систему узајамне каталогизац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и Онлине Библиографски Систем и Серв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и библиотечко-информациони систем обухвата библиотечко-информационе системе више земаља и повезује их са корисни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COBISS заснован је на </a:t>
            </a:r>
            <a:r>
              <a:rPr b="0" i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никацији између локалних рачунарских система (сервери), који су по правилу лоцирани у већим библиотекама, и централног рачунарског система у институцији која обавља функцију библиотечко-информацијског сервиса. Све комуникације одвијају се преко Интерне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~PP3744.WAV" descr=""/>
          <p:cNvPicPr/>
          <p:nvPr/>
        </p:nvPicPr>
        <p:blipFill>
          <a:blip r:embed="rId1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орцијум Библиотека Србије за Обједињену Набав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СОН (Конзорцијум Библиотека Србије за Обједињену Набавку) је нови облик организовања библиотека Србије, који  преговара о претплати и склапа уговоре о правима корисника за приступ електронским изворима на централизованој основи за све истраживаче, наставнике и студенте у Србиј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тива за формирање Конзорцијума покренута је новембра 2001. Иницијатори су били управници водећих научних библиотека у Србији (Народне библиотеке Србије - Београд, Библиотеке Матице српске - Нови Сад, Универзитетске библиотеке "Светозар Марковић" - Београд, Универзитетске библиотеке "Никола Тесла"- Ниш, Универзитетске библиотеке - Крагујевац, Библиотеке САНУ - Београд), као и представници Заједнице универзитетских библиотека и Заједнице библиотека у Србиј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еви удруживања с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авка страних научних информац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ак са папирних издања на електро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пређење приступа електронским информациј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СОН нам омогућава коришћење електронских ресурса (база података часописа) преко посебне wеб странице и формиране е-маил листе корис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часопис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 објављен у научном часопису треба да пружи увид стручној јавности у  методологију која ствара могућности за развој нових истраживања и подстиче стручну јавност на дискусију представљених резулт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заснована на дока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је “пажљива, промишљена употреба најбољих доказа из медицинске литературе у доношењу одлуке о лечењу конкретног болесника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значи да се индивидуално клиничко искуство интегрише са најбољим клиничким доказима из систематског истражи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дардна форма научног рукопи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исак ау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жет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в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теријал и мет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зултати (са табелама и графикони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иску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хвал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рукописа за научни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13000"/>
            <a:ext cx="4186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ључне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тек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ус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219280" y="1413000"/>
            <a:ext cx="346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л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материј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4"/>
          <p:cNvSpPr/>
          <p:nvPr/>
        </p:nvSpPr>
        <p:spPr>
          <a:xfrm>
            <a:off x="3132000" y="1557360"/>
            <a:ext cx="1656000" cy="1366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авне за индексирње и претрагу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132000" y="3213000"/>
            <a:ext cx="1584360" cy="273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95280" y="5300640"/>
            <a:ext cx="2448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ма пропозицијама часопи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е довољно специфичан за представљено и описано основно научно питање којим се рад бав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реба да буде разумљив и намењен широј научној јавнос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реба да укаже на популацију испитаник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а је ефектније ако наслов указује на најзначајније резултат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Наслов треба да има научни а не маркетиншки садржај!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к ау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аутор – највећи допринос писању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-аутори – учешће у различитим фазама израде рукоп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 увид стручној јавности у почетно истраживачко питање и основне резултате ра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рукопис треба да буде писан у мање формалном сти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ном структуиран и садржи : увод и циљ, материјал и методе, резултате и закључ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: 300 речи ( у зависности од захтева часопис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je након писања рада написати саже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делу не користити скраћенице нити наводити литера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д сажетка навести кључне речи – препорука је да се помињу у р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ирати у три 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м делу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укратк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ести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е чињенице о теми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угом делу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ратко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и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ни данас није јасн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ези са темом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ћем делу увода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ратко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и коју нову научну информацију ће рад донети и формулисати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тврдња која је резултат неке друге публикације мора бити подржана референцом (сем уколико није резултат ауторовог истраживања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референца мора бити наведена како у тексту рукописа (на начин како је то регулисано у Упутству за ауторе) тако и у одељку Литерату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референци у делу Литература мора да одговара редоследу појављивања референци у рукопи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страживачког рад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а која се истраж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 студије који је коришћен (врста студија, кохортна, случај - контро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ти групе које се испитују према узроку (независне варијабл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исходе који се прате (зависне варијаб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нагу студије и начин одређивања величине груп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татистичке тестове који ће се користити у фази обраде резулта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егледног рад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претраживања референтних база података, кључне речи, као и резултат претраг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процену пронађених публик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које студије нису прошле селекцију и заш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квалитет сваке од студија која је пронађена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а фармације засноване на доказ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ЗД)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грација клиничког искуств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редности пацијента и најбољих доказа из литературе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 сами по себи не доводе до закључак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само помажу у одређивању најбољег третмана пацијен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 обично се започиње приликом прегледа пацијен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генеришу питања о ефектима лечењ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ости дијагностичког теста или прогнози болести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 захтева нове вештине од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етраживање литературе и примену формалних правила за евалуацију доказа из литературе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цену квалитета клиничких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рандомизира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рандомизација урађена независно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групе сличне на почетку по заступљености прогностичких факт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мерење исхода био независно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цену квалитета клиничких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били наведени критеријуми за укључење пацијена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нега пацијената била независна од истраживач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двоструко сле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риказана средња вредност исхода уз варијабилнос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узети у обзир сви пацијенти који су започели студиј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 смо решили истраживачко питањ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к треба обезбедити довољно информација како би и други истраживачи могли да понове наведену методологију (корисно је потражити радове са истом методологиј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олико је протокол компликован дијаграм, схема могу бити корис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и мет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се не описују у овом делу ра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ложити питања која се односе на етички аспект извођења студ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ки ра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све добијене резултате по логичном редосл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резултат приказати табеларно или графи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умачити резултате у овом делу ра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нављати резултате у тексту и у таб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део рада треба да буде приказан као једна ц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водити све што је добијено у експерименту, студији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говарајући начин приказати резултате како би описали на прави начин шта је стварно у истраживању урађ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е и граф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као посебан документ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 табеле или графика је обавезан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 табеле или графике само ако су неопходни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и добијени резултат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тарисати у светлу резултата сличних истраживањ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понављати тврдње из дела Резултати 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мачити добијене резултате у односу на почетно питањ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ли резултати подржавају почетну хипотез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олико се резултати разликују од почетне хипотезе треба пронаћи објашњ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 ли постоји други начин за тумачење резултат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ја будућа истраживања су неопходна како би се истраживачко питање боље разјаснил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 се резултати нашег истраживања уклапају у “ширу“ слик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мирати у једној реченици закључак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л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организацију или појединца који су олакшали извођење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по редоследу како се појављују у р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мерисати редним бројевима од 1 па на да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а на доказим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а 3 пацијента фармацеут у просеку генерише 2 питања на која не може да пружи одго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0. години било је око 10,000 научних часописа; у 1990 било је више од 100,000 научних часописа; 90% свих најкрупнијих открића у науци је објављено у 150 од ових 100,000 публикаци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– приме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ђења референци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uver Style Citation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часопис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сви аутори се наводе ак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је 6 или мање; ако их је више, наводе с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прва три уз 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ey NJ, ZinsmeisterAR, Schleck CD, Melton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epsi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yspeptic subgroups: a population base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. Gastroenterology 1992; 102: 1259-6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rlock S. Diseases of the live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iliary system. 8th ed. Oxford: Blackwell S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, 1989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е у књизи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r JJ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iac sprue. In: Sleisenger MH, Fordtran JS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. Gastrointestinal disease. 4th ed. Philadelphia:WB Saunders Co, 1989: 1134-5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са веб страниц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xaparin. Summary of product characteristics. Aventis Pharmaceuticals Inc, 2004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ww.aventis-us.com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дњи пут веб страница посећена: 14.4.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налаз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на одговарајући начин тумачити симптоме и знаке код болес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наћи узрок бол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 дијагноз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и тес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изабрати и интерпретирати дијагностички те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задаци у раду са болесницима због којих се постављају пи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апиј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 изабрати лечење које више користи него што штет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оје вреди напора и трошков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вршавањ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побољшати своје клиничке вештине и своју пракс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то практично значи? Кораци у спровођењу фармације засноване на дока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нашег пацијента постоји одређен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треба да проблем прецизно дефинишемо. На пример: “Да ли постоји дијетални суплемент који може да снизи повишени артеријски притисак код одраслих пацијената са есенцијалном хипертензијом у фази 1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ци у спровођењу фармације засноване на дока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налазимо св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 студиј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у публиковане на ту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ронађених публикованих студија издвајамо само оне које с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шки исправно урађе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акле валидне) и чији резултат ј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издвојених студија формулишемо решење проблема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мо решење на пац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 ил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зрок, третман, итд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6:42:23Z</dcterms:created>
  <dc:creator>Marina Kostic</dc:creator>
  <dc:description/>
  <dc:language>en-US</dc:language>
  <cp:lastModifiedBy>Marina Kostic</cp:lastModifiedBy>
  <dcterms:modified xsi:type="dcterms:W3CDTF">2023-09-11T10:14:47Z</dcterms:modified>
  <cp:revision>29</cp:revision>
  <dc:subject/>
  <dc:title>Фармација заснована на доказима</dc:title>
</cp:coreProperties>
</file>